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10596"/>
        <c:axId val="11525635"/>
      </c:barChart>
      <c:catAx>
        <c:axId val="916105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25635"/>
        <c:crosses val="autoZero"/>
        <c:auto val="1"/>
        <c:lblAlgn val="ctr"/>
        <c:lblOffset val="100"/>
        <c:noMultiLvlLbl val="0"/>
      </c:catAx>
      <c:valAx>
        <c:axId val="115256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105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2C7-541B-4809-B00C-164EAA88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AC0-5368-408A-B547-856B97FF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3D3-CBBD-4585-9A16-1EB96C2C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EDD8-0350-4AC7-8889-DCFB7CB1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01C-4BCF-4C7A-BE51-C8227F10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FF0-187C-4F47-AD92-D61E3A39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116-BFBD-418B-B7D0-A92E5F70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D074-1636-4527-ACF6-F0A72C64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165-A18A-44DE-A561-6AEAC801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24E-259B-4B9A-A627-027A790D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4D0F-3CD2-402F-BBFA-2F91EBCF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F02B-16BA-4E05-9A34-3D2C00D4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F5492-7235-4DDE-A6E0-2A029D6AFA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