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98914"/>
        <c:axId val="80923169"/>
      </c:barChart>
      <c:catAx>
        <c:axId val="26298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23169"/>
        <c:crosses val="autoZero"/>
        <c:auto val="1"/>
        <c:lblAlgn val="ctr"/>
        <c:lblOffset val="100"/>
        <c:noMultiLvlLbl val="0"/>
      </c:catAx>
      <c:valAx>
        <c:axId val="80923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8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E0E-B85A-4120-BF68-4A6B872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681-B3A7-4E5C-9A5D-8DCA0B4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678-5409-408E-A014-05B0C7D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AB0-E106-4C8D-8D43-968F027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575-6A56-4B7A-BBA3-2DE4448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252-7909-496F-9EE6-71A1B8B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910-776B-47B0-888A-D3C9AE0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AA0-6DFB-4F31-9F8C-A5F4B69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2A6-C820-44AB-9177-93C028C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85C-E131-46EA-9B8D-0AB9AF4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2F4-E0AC-450A-A310-C208962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24C-0C9E-4398-B47A-EDE5D20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B29AF-A49E-4069-977C-C3A6DA8E4A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