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74123"/>
        <c:axId val="38733309"/>
      </c:barChart>
      <c:catAx>
        <c:axId val="23474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33309"/>
        <c:crosses val="autoZero"/>
        <c:auto val="1"/>
        <c:lblAlgn val="ctr"/>
        <c:lblOffset val="100"/>
        <c:noMultiLvlLbl val="0"/>
      </c:catAx>
      <c:valAx>
        <c:axId val="38733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74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DBF-4CE5-4610-BED6-635CC421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4BF-31D5-4817-B197-6CD7DC19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4C5-DC00-46F6-A0BB-F8509F3B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4FA-B62C-4183-B17B-D87333FB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285-8F01-4342-854D-EEEFA488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175-22A7-4C56-B4EA-5C08B214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823-9117-4A6F-9F4A-05B051EA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BDF-AB4F-4E4D-8AB5-126BF608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DA0-F7C8-4EC8-9BA1-830949AA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709-6BC6-4B4D-9E82-B2D353E9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D41-D2BD-40B1-AD17-9A62A82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DA3-F2B0-4609-9313-5A6A6984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2FB0C-304F-4155-8851-5D1B11CB40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