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980070"/>
        <c:axId val="15718231"/>
      </c:barChart>
      <c:catAx>
        <c:axId val="219800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18231"/>
        <c:crosses val="autoZero"/>
        <c:auto val="1"/>
        <c:lblAlgn val="ctr"/>
        <c:lblOffset val="100"/>
        <c:noMultiLvlLbl val="0"/>
      </c:catAx>
      <c:valAx>
        <c:axId val="157182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800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A76E-13EC-4478-BBA3-5ED75882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A08-B80C-415A-9D9F-AD055AE3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8CAD-FEF7-4BEB-B008-125FACBF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8312-79A9-40E0-94B7-DA962D14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D77-159F-42C1-8DA1-BD9B9C52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33E7-1DFC-4BE8-9AC7-8285AB31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93E1-2848-45A3-9F37-47B6617F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555E-9570-451D-81AE-72FA5CB0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C0B-369D-4FE6-A8CB-659A01CA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6E4B-909B-4779-8AAC-F043EF6F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8A60-6774-439D-AED9-6360CF11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30C4-C717-4C87-8DDF-46B749AC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F2135-3D70-4660-9340-FC31EAAEFE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