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98030"/>
        <c:axId val="3074519"/>
      </c:barChart>
      <c:catAx>
        <c:axId val="637980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4519"/>
        <c:crosses val="autoZero"/>
        <c:auto val="1"/>
        <c:lblAlgn val="ctr"/>
        <c:lblOffset val="100"/>
        <c:noMultiLvlLbl val="0"/>
      </c:catAx>
      <c:valAx>
        <c:axId val="3074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980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3B0-9693-4C6A-BC9C-0202B6F7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08EB-5A02-44D0-A71C-AA1AB006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F83A-BC09-41FB-BC23-695E9340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9B4-4C0F-4A4E-ACA3-679A4FB4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CC0-E4EF-4CD5-B77C-196ADF58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E121-E3B7-4397-8B23-8F7A4492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8A9-0D17-495D-B6D5-C744FCC9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91C-EE08-42CB-BDE3-6F97B95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875-C4C4-4961-8F54-819A2786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D70-BA69-4847-8FBE-7AFA3BA0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307-FEE4-4D44-9767-EAEADA0D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890-0B9C-4035-9ED7-7DB55FD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1C444-2684-47D3-92AF-1562D3D70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