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7766"/>
        <c:axId val="23312250"/>
      </c:barChart>
      <c:catAx>
        <c:axId val="1467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12250"/>
        <c:crosses val="autoZero"/>
        <c:auto val="1"/>
        <c:lblAlgn val="ctr"/>
        <c:lblOffset val="100"/>
        <c:noMultiLvlLbl val="0"/>
      </c:catAx>
      <c:valAx>
        <c:axId val="23312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7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1E4-4E2D-4AA0-9E1B-1985A231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B88-E554-4043-8034-479E57F2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AAC-F413-499E-93E0-B3E7272A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640-79F4-4358-AE37-FCDFC0CF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CCB-C5C4-4DAC-ADCE-E7F8D846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E72-63F1-41EF-9A9B-C0C4E0DE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780-0B2F-4C2B-874E-FE83115C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A86-88FC-4FA1-8191-5E871066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37A-D856-4263-8F45-ACC72921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859-1C2A-4062-80CA-C78323C2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DFE-8319-47DE-B4C9-CB9965F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E15-8644-4AD6-A014-9AC14E37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C3D1A-F382-4E6B-942F-0E7F9FC69E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