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21008"/>
        <c:axId val="72340462"/>
      </c:barChart>
      <c:catAx>
        <c:axId val="39921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40462"/>
        <c:crosses val="autoZero"/>
        <c:auto val="1"/>
        <c:lblAlgn val="ctr"/>
        <c:lblOffset val="100"/>
        <c:noMultiLvlLbl val="0"/>
      </c:catAx>
      <c:valAx>
        <c:axId val="72340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21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516-27C4-406D-AD9E-C2D2F17A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5C48-C94D-4930-BE16-99BE03C3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A8F-CD96-4852-AA3D-B1C16DD0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1FAB-6063-4CE1-AA95-52560440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199-32BA-4F37-B553-A5115C68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001B-34CD-40B3-BAF1-0635EF21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DB6-3DDF-44BB-AB15-9763CBFE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66C-90E8-4689-A630-CC84A147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FB5-6743-4646-9893-2F3BF516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F275-2AEE-46B8-8D06-33569AA2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2EC-E828-4879-8CD5-4D5B69DA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A2E-2C2A-4434-AACC-E47FF37A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99C42-92E5-4B34-AF85-91998EE1DF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