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635694"/>
        <c:axId val="96225000"/>
      </c:barChart>
      <c:catAx>
        <c:axId val="246356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25000"/>
        <c:crosses val="autoZero"/>
        <c:auto val="1"/>
        <c:lblAlgn val="ctr"/>
        <c:lblOffset val="100"/>
        <c:noMultiLvlLbl val="0"/>
      </c:catAx>
      <c:valAx>
        <c:axId val="962250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6356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7C57-9F42-48D9-98B1-5656C57AC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81CE-22D6-4DD7-A099-35D31D21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7E3D-6D84-4167-BB5B-14461F53E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CA14-8D70-4596-8F8B-1FCA11BC9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3E4A-9633-44A7-87A6-0030FC60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40D1-EB24-4360-9FB0-D723387F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4B74-DCFB-4289-B8C1-9A5A55CE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9C66-E8AA-4651-922A-B19A2307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A41F-37DE-4C58-A23E-3296457F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1DCC-1D09-4F63-9D37-8E90BA06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1BCD-72E9-4CD6-B7ED-251874BF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9DD9-023C-49A0-A736-CA74BFF8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3316E7-3C12-472F-A7D8-79ABE27C89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